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1545D-1A12-4635-9F9A-97957EF6B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CE847-A21E-46DE-8B31-AA98DF93B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1390A-0927-49F3-BBA6-4B6B8DF7E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F2F1F-CDD7-48C4-9280-C82B7F4D5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131ED-2FD9-4EEF-A84E-5425AAD95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3A4F6-89B7-4506-8531-B8839FAAE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06DFD-18B2-433D-8A9F-494F4E16E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7B0A5-2726-4FC6-AD42-F8B4F6589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FCC6E-08F5-4371-A25D-78A2CEC5E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CD1A1-48C2-456B-A6C3-D5F626032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EDA5D-C4A4-4AA5-960A-73E4BD328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2D0F6-368B-4886-8CC7-7ED557349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05C69-ADFD-424E-9220-6AA69847D0A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усский язы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ема: «Изменение имён прилагательных по числам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 кл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лан /Алгоритм/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3200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. Прочитай предлож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. Найди имя прилагательное и имя существительное, с которым оно связан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. Определи число имени прилагательного по имени существительном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564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 небе по…вилось ярко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о…нце. Летний дож…ь быстр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акончился. З…лёные листья весел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…шуме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оверь себ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 небе по</a:t>
            </a:r>
            <a:r>
              <a:rPr b="1" i="1" lang="ru-RU" sz="4800" spc="-1" strike="noStrike">
                <a:solidFill>
                  <a:srgbClr val="000000"/>
                </a:solidFill>
                <a:latin typeface="Arial"/>
              </a:rPr>
              <a:t>я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илось яркое (ед.ч.) со</a:t>
            </a:r>
            <a:r>
              <a:rPr b="1" i="1" lang="ru-RU" sz="4800" spc="-1" strike="noStrike">
                <a:solidFill>
                  <a:srgbClr val="000000"/>
                </a:solidFill>
                <a:latin typeface="Arial"/>
              </a:rPr>
              <a:t>л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це. Летний (ед.ч.) дож</a:t>
            </a:r>
            <a:r>
              <a:rPr b="1" i="1" lang="ru-RU" sz="48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ь быстро закончился. З</a:t>
            </a:r>
            <a:r>
              <a:rPr b="1" i="1" lang="ru-RU" sz="48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лёные (мн.ч.) листья весело з</a:t>
            </a:r>
            <a:r>
              <a:rPr b="1" i="1" lang="ru-RU" sz="4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шуме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ефлекс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Я смог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Я повторил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Мне было трудно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Мне понравилось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чебник стр. 93 упр.16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ставь рассказ о маме устн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.А.Есенин «Черёмуха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ерёмуха душист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весною расцве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ветки золотисты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 кудри зави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ругом роса медвя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ползает по кор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 нею зелень пря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яет в серебр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 рядом у проталинк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траве, между корне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ежи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руится маленький Серебряный руч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ерёмуха душиста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весившись стои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 зелень золотист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солнышке гори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учей волной гремуче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е ветки обдаё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вкрадчиво под круче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й песенки поё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гад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явился из-под снег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видал кусочек неб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амый первый, самый нежны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истый, маленький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одснежн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6" descr="mini_2"/>
          <p:cNvPicPr/>
          <p:nvPr/>
        </p:nvPicPr>
        <p:blipFill>
          <a:blip r:embed="rId1"/>
          <a:stretch/>
        </p:blipFill>
        <p:spPr>
          <a:xfrm>
            <a:off x="324000" y="1341360"/>
            <a:ext cx="8424720" cy="511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ловар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2" descr="Petuh"/>
          <p:cNvPicPr/>
          <p:nvPr/>
        </p:nvPicPr>
        <p:blipFill>
          <a:blip r:embed="rId1"/>
          <a:stretch/>
        </p:blipFill>
        <p:spPr>
          <a:xfrm>
            <a:off x="457200" y="1557360"/>
            <a:ext cx="4038480" cy="45356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4" descr="untitled"/>
          <p:cNvPicPr/>
          <p:nvPr/>
        </p:nvPicPr>
        <p:blipFill>
          <a:blip r:embed="rId2"/>
          <a:stretch/>
        </p:blipFill>
        <p:spPr>
          <a:xfrm>
            <a:off x="4992840" y="1557360"/>
            <a:ext cx="3611520" cy="45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мя существительно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Это часть речи, которая обозначает предме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твечает на вопрос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т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т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мя прилагательно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Это часть речи, которая обозначает признак предме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твечает на вопрос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ако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ака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аки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ако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000000"/>
                </a:solidFill>
                <a:latin typeface="Arial"/>
              </a:rPr>
              <a:t>Тема урока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000000"/>
                </a:solidFill>
                <a:latin typeface="Arial"/>
              </a:rPr>
              <a:t>«Изменение имен прилагательных по числам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рочитай, определи число имени прилагательного по числу имени существительного  (устно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40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гр.     Белый цветок - белые цве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ёплое море – тёплые мор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 гр. Сладкий пирог – сладкие пирог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иняя лента – синие лен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 гр. Тёмный лес – тёмные ле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ветлая юбка – светлые юб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4 гр.  Храбрый воин – храбрые вой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есёлая песня – весёлые пес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27T15:10:42Z</dcterms:created>
  <dc:creator>-</dc:creator>
  <dc:description/>
  <dc:language>en-US</dc:language>
  <cp:lastModifiedBy>галка</cp:lastModifiedBy>
  <dcterms:modified xsi:type="dcterms:W3CDTF">2020-04-04T11:16:50Z</dcterms:modified>
  <cp:revision>9</cp:revision>
  <dc:subject/>
  <dc:title>Презентацию выполнил учитель начальных классов </dc:title>
</cp:coreProperties>
</file>